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B76B-1DA2-4194-9B3E-946094FD4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8B8F-CFD8-46A6-B4C7-73942D29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DE2A-9B95-443D-AD68-BA8762D8A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96C6-2803-4032-A489-06ED28917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21F8-9296-47EF-AA3F-E16B6A93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0F72-72FB-45DA-9AD6-E3E032AC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61DD-7620-4167-9153-DFB4D0C7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22F3-E939-431A-8AC0-6307DB6C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A02A-38F3-4520-806E-2DDDB329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898A-00D0-4BD2-9644-DB3FB6A9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5A53-7A8A-4DC0-AA66-95501C32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EAD4-58D4-4AE3-8243-925646B3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83AF-F5D1-40FB-94AF-50D4497B6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93 Kto chce s Kristom zvíťazi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 chce s Kristom zvíťaz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zvodom odol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pred musí smelo vykroč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štít viery pevnej m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Pán raz velí vre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márne hľadieť späť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za ním, k cieľu domo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pred, cirkev Kristova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nás, ty Knieža pokoj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tále s nami buď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v svete plnom rozbroj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e v láske jeden ľu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ám ráč nám silu d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svietiť smieme, hri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ma hriech nech sa rozply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oc smrti pomi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k smieme láskou spojen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 Krista pracov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er jeho šíriť na zem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pásu zvesto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blízko cesty cieľ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Pán náš, Spasit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z bude v zemi večných kr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ám vrelo vítať nás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2T10:26:39Z</dcterms:modified>
  <cp:revision>20</cp:revision>
  <dc:subject/>
  <dc:title>Je veľký náš Pán, on slávy je Kráľ Nech do všetkých strán  spev vrúcnych znie chvál.</dc:title>
</cp:coreProperties>
</file>